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yeaahh!.wav" ContentType="audio/x-wav"/>
  <Override PartName="/ppt/media/APPLAUSE.WAV" ContentType="audio/x-wav"/>
  <Override PartName="/ppt/media/woob.wav" ContentType="audio/x-wav"/>
  <Override PartName="/ppt/media/image12.wmf" ContentType="image/x-wmf"/>
  <Override PartName="/ppt/media/boo.wav" ContentType="audio/x-wav"/>
  <Override PartName="/ppt/media/image3.png" ContentType="image/png"/>
  <Override PartName="/ppt/media/image11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3.wmf" ContentType="image/x-wmf"/>
  <Override PartName="/ppt/media/hotdog1.wav" ContentType="audio/x-wav"/>
  <Override PartName="/ppt/media/gethang.wav" ContentType="audio/x-wav"/>
  <Override PartName="/ppt/media/gettingthru.wav" ContentType="audio/x-wav"/>
  <Override PartName="/ppt/media/image16.png" ContentType="image/png"/>
  <Override PartName="/ppt/media/runningeffect.wav" ContentType="audio/x-wav"/>
  <Override PartName="/ppt/media/image17.png" ContentType="image/png"/>
  <Override PartName="/ppt/media/bouncespring.wav" ContentType="audio/x-wav"/>
  <Override PartName="/ppt/media/cryingchild.wav" ContentType="audio/x-wav"/>
  <Override PartName="/ppt/media/image2.png" ContentType="image/png"/>
  <Override PartName="/ppt/media/image10.wmf" ContentType="image/x-wmf"/>
  <Override PartName="/ppt/media/attaboy.wav" ContentType="audio/x-wav"/>
  <Override PartName="/ppt/media/cool.wav" ContentType="audio/x-wav"/>
  <Override PartName="/ppt/media/image4.wmf" ContentType="image/x-wmf"/>
  <Override PartName="/ppt/media/bustbutn.wav" ContentType="audio/x-wav"/>
  <Override PartName="/ppt/media/image1.png" ContentType="image/png"/>
  <Override PartName="/ppt/media/look_good.wav" ContentType="audio/x-wav"/>
  <Override PartName="/ppt/media/image8.wmf" ContentType="image/x-wmf"/>
  <Override PartName="/ppt/media/yes-kramer.wav" ContentType="audio/x-wav"/>
  <Override PartName="/ppt/media/image9.wmf" ContentType="image/x-wmf"/>
  <Override PartName="/ppt/media/image14.png" ContentType="image/png"/>
  <Override PartName="/ppt/media/image5.wmf" ContentType="image/x-wmf"/>
  <Override PartName="/ppt/media/laugh-herma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BB6-1713-4BF4-930D-594FBEA2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ADD-644D-4E38-9D3B-3E31FEF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35D-4854-41CC-9A76-B0EA52FD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C3D-3DEE-4474-8198-1562A410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63F-1B81-420C-9863-043AB0F6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39B-F89E-4A23-A408-B7742CBF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EC7-7A55-489B-80C6-C55300BC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3C3-4924-46EB-8C62-663B4809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F2F-AB65-4A68-BC5D-1C888912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DEF-66FF-4A4D-BF79-CD727C8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C11-5779-4421-86B8-36134B3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2D2-A399-4D7F-8735-8B0E1598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872C-0F15-4A62-93AB-333D655D0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ustbut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yes-kra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ugh-herma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oo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woob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audio" Target="../media/bouncesprin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audio" Target="../media/yeaahh!.wav"/><Relationship Id="rId4" Type="http://schemas.openxmlformats.org/officeDocument/2006/relationships/audio" Target="../media/gettingthru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unet.com/english/grammar/adjectiv.html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gethang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ryingchil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runningeffec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hotdog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oanne Whit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Connie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bigmouth"/>
          <p:cNvPicPr/>
          <p:nvPr/>
        </p:nvPicPr>
        <p:blipFill>
          <a:blip r:embed="rId1"/>
          <a:stretch/>
        </p:blipFill>
        <p:spPr>
          <a:xfrm>
            <a:off x="6553080" y="1371600"/>
            <a:ext cx="207648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7"/>
          <p:cNvSpPr/>
          <p:nvPr/>
        </p:nvSpPr>
        <p:spPr>
          <a:xfrm flipH="1" rot="13968600">
            <a:off x="1500840" y="-52920"/>
            <a:ext cx="3398760" cy="4114800"/>
          </a:xfrm>
          <a:prstGeom prst="wedgeEllipseCallout">
            <a:avLst>
              <a:gd name="adj1" fmla="val 64398"/>
              <a:gd name="adj2" fmla="val 688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828800" y="129528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stbut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5"/>
          <p:cNvSpPr/>
          <p:nvPr/>
        </p:nvSpPr>
        <p:spPr>
          <a:xfrm>
            <a:off x="914400" y="2133720"/>
            <a:ext cx="2895480" cy="8380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olorful butterfly was Evan’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433520"/>
            <a:ext cx="3809880" cy="3381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orful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6248520" y="4419720"/>
            <a:ext cx="533160" cy="838080"/>
          </a:xfrm>
          <a:prstGeom prst="upArrow">
            <a:avLst>
              <a:gd name="adj1" fmla="val 50000"/>
              <a:gd name="adj2" fmla="val 39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477120" y="5943600"/>
            <a:ext cx="8380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s-kra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>
            <a:off x="4495680" y="28195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06440" y="1066680"/>
            <a:ext cx="271944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242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rittany wore a pink dres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k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3058800">
            <a:off x="2157120" y="3938400"/>
            <a:ext cx="2514600" cy="581040"/>
          </a:xfrm>
          <a:prstGeom prst="leftArrow">
            <a:avLst>
              <a:gd name="adj1" fmla="val 50000"/>
              <a:gd name="adj2" fmla="val 1081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8"/>
          <p:cNvSpPr/>
          <p:nvPr/>
        </p:nvSpPr>
        <p:spPr>
          <a:xfrm>
            <a:off x="7696080" y="5257800"/>
            <a:ext cx="9144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6"/>
          <p:cNvSpPr/>
          <p:nvPr/>
        </p:nvSpPr>
        <p:spPr>
          <a:xfrm flipH="1" rot="10401000">
            <a:off x="4800240" y="2742840"/>
            <a:ext cx="2133720" cy="1295280"/>
          </a:xfrm>
          <a:prstGeom prst="wedgeEllipseCallout">
            <a:avLst>
              <a:gd name="adj1" fmla="val -55134"/>
              <a:gd name="adj2" fmla="val 416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72404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rankie saw a funny clown at the circu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191120" y="5791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n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/>
          <p:cNvSpPr/>
          <p:nvPr/>
        </p:nvSpPr>
        <p:spPr>
          <a:xfrm rot="2830800">
            <a:off x="2361960" y="4572000"/>
            <a:ext cx="1981080" cy="762120"/>
          </a:xfrm>
          <a:prstGeom prst="leftArrow">
            <a:avLst>
              <a:gd name="adj1" fmla="val 50000"/>
              <a:gd name="adj2" fmla="val 649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1371600" y="51814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-her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304920" y="2971800"/>
            <a:ext cx="3429000" cy="1066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ilary wore a striped shir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2590560" cy="48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533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pe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/>
          <p:cNvSpPr/>
          <p:nvPr/>
        </p:nvSpPr>
        <p:spPr>
          <a:xfrm rot="19991400">
            <a:off x="2590920" y="3352680"/>
            <a:ext cx="3657600" cy="533520"/>
          </a:xfrm>
          <a:prstGeom prst="rightArrow">
            <a:avLst>
              <a:gd name="adj1" fmla="val 50000"/>
              <a:gd name="adj2" fmla="val 1713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572000" y="5029200"/>
            <a:ext cx="8380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1479600"/>
            <a:ext cx="3809880" cy="3136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8002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little baby crawl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172200" y="1066680"/>
            <a:ext cx="2286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419720" y="4648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tle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2043000">
            <a:off x="2514600" y="3809520"/>
            <a:ext cx="1828800" cy="60984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1371600" y="49528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oo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sitie bounced the round basket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5120" y="1219320"/>
            <a:ext cx="33544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2286000" y="3048120"/>
            <a:ext cx="6267600" cy="1218960"/>
            <a:chOff x="2286000" y="3048120"/>
            <a:chExt cx="6267600" cy="1218960"/>
          </a:xfrm>
        </p:grpSpPr>
        <p:pic>
          <p:nvPicPr>
            <p:cNvPr id="118" name="Picture 4" descr="bball"/>
            <p:cNvPicPr/>
            <p:nvPr/>
          </p:nvPicPr>
          <p:blipFill>
            <a:blip r:embed="rId2"/>
            <a:stretch/>
          </p:blipFill>
          <p:spPr>
            <a:xfrm>
              <a:off x="7391520" y="3048120"/>
              <a:ext cx="11620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5"/>
            <p:cNvSpPr/>
            <p:nvPr/>
          </p:nvSpPr>
          <p:spPr>
            <a:xfrm>
              <a:off x="2286000" y="380988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18288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8"/>
          <p:cNvSpPr/>
          <p:nvPr/>
        </p:nvSpPr>
        <p:spPr>
          <a:xfrm>
            <a:off x="1162080" y="4854600"/>
            <a:ext cx="3087720" cy="92160"/>
          </a:xfrm>
          <a:prstGeom prst="pie">
            <a:avLst/>
          </a:pr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7467480" y="5638680"/>
            <a:ext cx="68580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uncesp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djectives answer two ques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33520" y="4572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an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ver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o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495680" y="457200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crunch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bfcf"/>
                </a:solidFill>
                <a:latin typeface="Times New Roman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sma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7"/>
          <p:cNvSpPr/>
          <p:nvPr/>
        </p:nvSpPr>
        <p:spPr>
          <a:xfrm>
            <a:off x="2286000" y="1905120"/>
            <a:ext cx="167652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the adjective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noun does it tell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blue notebook is clos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00816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228600" y="5029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e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6019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1214280" y="3139560"/>
            <a:ext cx="5004000" cy="1112040"/>
            <a:chOff x="1214280" y="3139560"/>
            <a:chExt cx="5004000" cy="1112040"/>
          </a:xfrm>
        </p:grpSpPr>
        <p:sp>
          <p:nvSpPr>
            <p:cNvPr id="135" name="AutoShape 9"/>
            <p:cNvSpPr/>
            <p:nvPr/>
          </p:nvSpPr>
          <p:spPr>
            <a:xfrm rot="689400">
              <a:off x="3962160" y="335268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1214280" y="3762360"/>
              <a:ext cx="2505240" cy="8568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Oval 13"/>
          <p:cNvSpPr/>
          <p:nvPr/>
        </p:nvSpPr>
        <p:spPr>
          <a:xfrm>
            <a:off x="8305920" y="5715000"/>
            <a:ext cx="3045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ahh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tingthr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need more practic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mouse"/>
          <p:cNvPicPr/>
          <p:nvPr/>
        </p:nvPicPr>
        <p:blipFill>
          <a:blip r:embed="rId2"/>
          <a:stretch/>
        </p:blipFill>
        <p:spPr>
          <a:xfrm>
            <a:off x="4648320" y="4038480"/>
            <a:ext cx="704880" cy="113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hildatdesk"/>
          <p:cNvPicPr/>
          <p:nvPr/>
        </p:nvPicPr>
        <p:blipFill>
          <a:blip r:embed="rId3"/>
          <a:stretch/>
        </p:blipFill>
        <p:spPr>
          <a:xfrm>
            <a:off x="6477120" y="152280"/>
            <a:ext cx="2539800" cy="2756160"/>
          </a:xfrm>
          <a:prstGeom prst="rect">
            <a:avLst/>
          </a:prstGeom>
          <a:ln w="0">
            <a:noFill/>
          </a:ln>
        </p:spPr>
      </p:pic>
      <p:sp>
        <p:nvSpPr>
          <p:cNvPr id="142" name="Oval 6"/>
          <p:cNvSpPr/>
          <p:nvPr/>
        </p:nvSpPr>
        <p:spPr>
          <a:xfrm>
            <a:off x="6553080" y="4419720"/>
            <a:ext cx="160020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ha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Jester"/>
              </a:rPr>
              <a:t>ADJECTIV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jectives tell about 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nou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ey usually answer 2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0574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24280" y="8380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91440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ad litt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477120" y="5791320"/>
            <a:ext cx="7617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yingchil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racti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Oval 4"/>
          <p:cNvSpPr/>
          <p:nvPr/>
        </p:nvSpPr>
        <p:spPr>
          <a:xfrm>
            <a:off x="3962520" y="5486400"/>
            <a:ext cx="91440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nningeff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4114800" cy="2363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876560" y="19051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obert had four books on his shelf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5"/>
          <p:cNvSpPr/>
          <p:nvPr/>
        </p:nvSpPr>
        <p:spPr>
          <a:xfrm>
            <a:off x="5410080" y="3733920"/>
            <a:ext cx="1059120" cy="759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8088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n you find the adjectives and the nouns they descri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952880" y="52578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9"/>
          <p:cNvSpPr/>
          <p:nvPr/>
        </p:nvSpPr>
        <p:spPr>
          <a:xfrm rot="18023400">
            <a:off x="3683160" y="4006440"/>
            <a:ext cx="761760" cy="1943280"/>
          </a:xfrm>
          <a:prstGeom prst="upArrow">
            <a:avLst>
              <a:gd name="adj1" fmla="val 50000"/>
              <a:gd name="adj2" fmla="val 63776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705720" y="6095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tta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2362320" y="1143000"/>
            <a:ext cx="2057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cary ghost was not smiling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26160" y="1066680"/>
            <a:ext cx="37591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r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8"/>
          <p:cNvSpPr/>
          <p:nvPr/>
        </p:nvSpPr>
        <p:spPr>
          <a:xfrm rot="19916400">
            <a:off x="4038120" y="4952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324480" y="5562720"/>
            <a:ext cx="9907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5"/>
          <p:cNvSpPr/>
          <p:nvPr/>
        </p:nvSpPr>
        <p:spPr>
          <a:xfrm>
            <a:off x="4800600" y="3657600"/>
            <a:ext cx="19810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131840"/>
            <a:ext cx="3809880" cy="3832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796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ssimine looked into the clear 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 rot="20201400">
            <a:off x="3504960" y="4800240"/>
            <a:ext cx="3429000" cy="588960"/>
          </a:xfrm>
          <a:prstGeom prst="rightArrow">
            <a:avLst>
              <a:gd name="adj1" fmla="val 50000"/>
              <a:gd name="adj2" fmla="val 1455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8"/>
          <p:cNvSpPr/>
          <p:nvPr/>
        </p:nvSpPr>
        <p:spPr>
          <a:xfrm>
            <a:off x="7010280" y="525780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tdo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00:53:22Z</dcterms:created>
  <dc:creator>Joanne Whitley</dc:creator>
  <dc:description/>
  <dc:language>en-US</dc:language>
  <cp:lastModifiedBy>teacher</cp:lastModifiedBy>
  <dcterms:modified xsi:type="dcterms:W3CDTF">2011-01-03T23:32:26Z</dcterms:modified>
  <cp:revision>7</cp:revision>
  <dc:subject/>
  <dc:title>ADJECTIVES</dc:title>
</cp:coreProperties>
</file>